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01E1-235C-4F12-883D-F937F127D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8FA5-B0E2-4FB3-9FBF-977E3F311809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4C66-D304-47C3-8C23-879B98035DD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21D5-3903-4752-A243-0E26A569727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5152-9A50-4303-AE65-60E339CED64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06FF-9FA9-409A-A716-0FBF5DEFD37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B4C0-F6CF-4BEE-BAEF-2D96C64171A8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53AB-6624-4109-ADC9-D415CC5B9E49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4C86-0846-432D-937D-8659B5B441C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Bacteria &amp; yeas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A22E-2449-454A-8E94-6D4F2774356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Used as primary energy pathway in some bacteria but can also be supplemental in many eukaryotes, e.g., muscl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C957-73A9-47A4-87EF-76D155A4373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0307-E798-4703-8326-5353B607A58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7C6E-CA01-4333-8BE9-4EEFD8EFC41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311B-36E8-4FF8-B59F-EDC17492168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0DF8-8B06-4602-B7A6-6D91FAF3F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1B97-EE92-429A-AF75-2F411AFD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1B67-75CB-4B9A-89E4-9B4DB3F27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C48D-D7CE-422A-A0BE-AAC6BF20F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1FEB-B574-4D4A-8908-12A909A0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55B3-2834-4487-B25C-92EEBF75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5DCF-A524-466F-94CC-54EE1330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9BFE-B38D-4691-9121-89B28F41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33AA-ED5F-430C-8A8A-529DB7F2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79CA-3E4E-4CEC-A6AC-D4151711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1DBE-D82F-4EAF-8343-6780FD1B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9A50-BB9B-4B00-8401-5C074484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ECF9-41C6-487C-BD0B-5C2EF8D2B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d Path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erobic Pathways (4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Alternatives To Glucose (4.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elated Pathways</a:t>
            </a:r>
            <a:br>
              <a:rPr sz="4400"/>
            </a:b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lasses.midlandstech.edu/carterp/Courses/bio225/chap05/ss5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33440" y="1981080"/>
            <a:ext cx="4677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rotein Catabolism</a:t>
            </a:r>
            <a:br>
              <a:rPr sz="4400"/>
            </a:b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cademic.brooklyn.cuny.edu/biology/bio4fv/page/3d_prot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s are digested into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ino groups are then removed in a process 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a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499000" y="1981080"/>
            <a:ext cx="2108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rotein Catabo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chemical reactions will convert the remaining part of the amino acids into intermediates of glycolysis or the Krebs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rotein Catabo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1981080"/>
          <a:ext cx="7772040" cy="4114440"/>
        </p:xfrm>
        <a:graphic>
          <a:graphicData uri="http://schemas.openxmlformats.org/drawingml/2006/table">
            <a:tbl>
              <a:tblPr/>
              <a:tblGrid>
                <a:gridCol w="4749840"/>
                <a:gridCol w="3022200"/>
              </a:tblGrid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nine, cysteine, glycine, serine, threon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ruv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aragine, aspart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aloace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inine, glutamate, glutamine, histidine, pro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ketogluta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leucine, methionine, va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inyl-Co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ucine, lys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tyl-Co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 Structure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future-of-technology.com/index.php?p=2_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f the fats digested by humans are triglycer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48320" y="2757600"/>
            <a:ext cx="380988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Lipid Catabo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glycerides are first digested in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lycer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atty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ycerol is either converted int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HA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hen G3P), and enters glyco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Lipid Catabo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ty acids are transported to the matrix of the mitochondria and underg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β-ox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β-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tty acid chain is cleaved into 2-carbon acetyl groups, which are converted int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etyl-Co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can enter the Krebs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very cleavage uses one ATP and produces one NADH and one FADH</a:t>
            </a:r>
            <a:r>
              <a:rPr b="1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elated Path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://people.eku.edu/ritchisong/RITCHISO/cellmetabolism.jpg"/>
          <p:cNvPicPr/>
          <p:nvPr/>
        </p:nvPicPr>
        <p:blipFill>
          <a:blip r:embed="rId1"/>
          <a:stretch/>
        </p:blipFill>
        <p:spPr>
          <a:xfrm>
            <a:off x="214200" y="1527120"/>
            <a:ext cx="857268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erobic Path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s to pyruv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ate of the pyruvate molecules depends on whether oxygen is present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erob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piration) or not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aerob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pir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rmentation is the anaerobic reduction of pyruvate to ethanol or lact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18240" y="1981080"/>
            <a:ext cx="3465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lcohol Fer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yruv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ecarboxylated in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n reduced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than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xidizing NADH to NA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778120" y="4106880"/>
            <a:ext cx="358776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Lactic Acid Fer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yruv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reduced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actic 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xidizing NADH to NA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3280" y="2357280"/>
            <a:ext cx="38149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Products of Fermentation</a:t>
            </a:r>
            <a:br>
              <a:rPr sz="4000"/>
            </a:b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textbookofbacteriology.net/themicrobialworld/Effec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662200" y="1981080"/>
            <a:ext cx="381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rokaryotes have electron transport chains on internal membran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al electron acceptor can be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erobic) or other molecules (anaerobic) such as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,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lternatives to Gluc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549440" y="4059000"/>
            <a:ext cx="604512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898989"/>
                </a:solidFill>
                <a:latin typeface="Arial"/>
              </a:rPr>
              <a:t>Related Path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elated Path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, lipids and nucleic acids can also be metabolized for energy by entering into a part of glycolysis or the Krebs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9T21:11:38Z</dcterms:created>
  <dc:creator>rubina khan</dc:creator>
  <dc:description/>
  <dc:language>en-US</dc:language>
  <cp:lastModifiedBy>rubina khan</cp:lastModifiedBy>
  <dcterms:modified xsi:type="dcterms:W3CDTF">2012-03-27T17:12:17Z</dcterms:modified>
  <cp:revision>48</cp:revision>
  <dc:subject/>
  <dc:title>Anaerobic Pathways</dc:title>
</cp:coreProperties>
</file>